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6AF-5249-45D1-B41F-94177A1D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220-01D8-42B1-BE9A-C7F0239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5B4-75A1-4EFC-AF25-29EA90C1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C52-362B-40D5-B157-78C1E3A1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CF0-25A0-4A63-950A-1826E622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B3B-5254-4D3D-A452-74C0912E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0FD-FDFB-4DA2-B3C0-F9CF8D08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45C-DA28-46A0-BFAF-AE3378A3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95-A012-49F6-A933-9391AD0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EC9-2685-4BE2-B995-D3D0F8A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A71-C89E-4FA5-93AE-4B25ACF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757-F6C3-48F8-B1C4-93374544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54B8-982A-4B30-B495-180685C8C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smic Surve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898989"/>
                </a:solidFill>
                <a:latin typeface="Comic Sans MS"/>
              </a:rPr>
              <a:t>How Far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ST"/>
          <p:cNvPicPr/>
          <p:nvPr/>
        </p:nvPicPr>
        <p:blipFill>
          <a:blip r:embed="rId1"/>
          <a:stretch/>
        </p:blipFill>
        <p:spPr>
          <a:xfrm>
            <a:off x="685800" y="2133720"/>
            <a:ext cx="24271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124080" y="22860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350 miles above the surface of Ea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on"/>
          <p:cNvPicPr/>
          <p:nvPr/>
        </p:nvPicPr>
        <p:blipFill>
          <a:blip r:embed="rId1"/>
          <a:stretch/>
        </p:blipFill>
        <p:spPr>
          <a:xfrm>
            <a:off x="914400" y="2133720"/>
            <a:ext cx="2155680" cy="2347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124080" y="2514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50,000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un"/>
          <p:cNvPicPr/>
          <p:nvPr/>
        </p:nvPicPr>
        <p:blipFill>
          <a:blip r:embed="rId1"/>
          <a:stretch/>
        </p:blipFill>
        <p:spPr>
          <a:xfrm>
            <a:off x="533520" y="1752480"/>
            <a:ext cx="2155680" cy="2455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124080" y="2209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93 m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4114800" y="24382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790 m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hen it is closes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Saturn"/>
          <p:cNvPicPr/>
          <p:nvPr/>
        </p:nvPicPr>
        <p:blipFill>
          <a:blip r:embed="rId1"/>
          <a:stretch/>
        </p:blipFill>
        <p:spPr>
          <a:xfrm>
            <a:off x="457200" y="198108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124080" y="22860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400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Pleiades"/>
          <p:cNvPicPr/>
          <p:nvPr/>
        </p:nvPicPr>
        <p:blipFill>
          <a:blip r:embed="rId1"/>
          <a:stretch/>
        </p:blipFill>
        <p:spPr>
          <a:xfrm>
            <a:off x="380880" y="1981080"/>
            <a:ext cx="25909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124080" y="31240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00 million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Galaxy"/>
          <p:cNvPicPr/>
          <p:nvPr/>
        </p:nvPicPr>
        <p:blipFill>
          <a:blip r:embed="rId1"/>
          <a:stretch/>
        </p:blipFill>
        <p:spPr>
          <a:xfrm>
            <a:off x="457200" y="1905120"/>
            <a:ext cx="23083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12408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30 billion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DF"/>
          <p:cNvPicPr/>
          <p:nvPr/>
        </p:nvPicPr>
        <p:blipFill>
          <a:blip r:embed="rId1"/>
          <a:stretch/>
        </p:blipFill>
        <p:spPr>
          <a:xfrm>
            <a:off x="533520" y="6094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00200" y="4191120"/>
            <a:ext cx="6019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AT’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AR!!!!!!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20:42Z</dcterms:created>
  <dc:creator>Sherry Miers</dc:creator>
  <dc:description/>
  <dc:language>en-US</dc:language>
  <cp:lastModifiedBy> </cp:lastModifiedBy>
  <dcterms:modified xsi:type="dcterms:W3CDTF">2007-10-22T13:36:23Z</dcterms:modified>
  <cp:revision>2</cp:revision>
  <dc:subject/>
  <dc:title>Cosmic Survey</dc:title>
</cp:coreProperties>
</file>